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7621588"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527CD-86DD-49DB-BD91-1C5D353D7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133344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27BFA-FF04-48B3-954D-7F9295905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B55F6-4D3C-4BEB-B5BB-9D79563DF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133344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3303720"/>
            <a:ext cx="22078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300B1-9643-4F17-A8E0-69B2D6BD2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1333440"/>
            <a:ext cx="68580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F4D98-40B0-48A6-904B-A5D12C613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1333440"/>
            <a:ext cx="68580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BD58-FFE6-42FD-84A0-9312AD97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4091-1B55-4B53-8BC7-2F371B68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C5165-3A5B-4B5F-A9B5-2A3A640DC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600"/>
            <a:ext cx="68580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FC82A-FC81-4A70-BB4A-478B15D5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ECEF-B427-4430-A424-79EB791AA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1333440"/>
            <a:ext cx="334656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330372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299C-1E86-490D-8F4D-148CB1E3F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1333440"/>
            <a:ext cx="334656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303720"/>
            <a:ext cx="68580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6EEA-8AAC-422A-8AD8-F768708E5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68580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1333440"/>
            <a:ext cx="68580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5203440"/>
            <a:ext cx="1778040" cy="3970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5203440"/>
            <a:ext cx="2413080" cy="397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5203440"/>
            <a:ext cx="177804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C0EF-1E18-4C3E-8C61-04E4F161A1D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31840" y="79200"/>
            <a:ext cx="70801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omic Sans MS"/>
              </a:rPr>
              <a:t>Instructions for Bateau, Ciseaux</a:t>
            </a:r>
            <a:endParaRPr b="0" lang="en-US" sz="3500" spc="-1" strike="noStrike">
              <a:solidFill>
                <a:srgbClr val="000000"/>
              </a:solidFill>
              <a:latin typeface="Arial"/>
            </a:endParaRPr>
          </a:p>
        </p:txBody>
      </p:sp>
      <p:sp>
        <p:nvSpPr>
          <p:cNvPr id="42" name=""/>
          <p:cNvSpPr/>
          <p:nvPr/>
        </p:nvSpPr>
        <p:spPr>
          <a:xfrm>
            <a:off x="298440" y="1136520"/>
            <a:ext cx="68896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rPr>
              <a:t>This is a traditional rhyme that children learn in France. It is normally accompanied by actions. Two children sit in front of each other, their legs open in a V shape and their feet touching. They hold hands and swing whilst saying the rhyme. On the last line they pretend to fall in the middle, generally whilst saying “plouf!” (French for splash)</a:t>
            </a:r>
            <a:endParaRPr b="0" lang="en-US" sz="1100" spc="-1" strike="noStrike">
              <a:solidFill>
                <a:srgbClr val="000000"/>
              </a:solidFill>
              <a:latin typeface="Arial"/>
            </a:endParaRPr>
          </a:p>
        </p:txBody>
      </p:sp>
      <p:sp>
        <p:nvSpPr>
          <p:cNvPr id="43" name=""/>
          <p:cNvSpPr/>
          <p:nvPr/>
        </p:nvSpPr>
        <p:spPr>
          <a:xfrm>
            <a:off x="307800" y="2289240"/>
            <a:ext cx="774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You will need visuals on the board for the different parts of the song and also sets of visuals for the children when they work in groups.</a:t>
            </a:r>
            <a:endParaRPr b="0" lang="en-US" sz="1200" spc="-1" strike="noStrike">
              <a:solidFill>
                <a:srgbClr val="000000"/>
              </a:solidFill>
              <a:latin typeface="Arial"/>
            </a:endParaRPr>
          </a:p>
        </p:txBody>
      </p:sp>
      <p:sp>
        <p:nvSpPr>
          <p:cNvPr id="44" name=""/>
          <p:cNvSpPr/>
          <p:nvPr/>
        </p:nvSpPr>
        <p:spPr>
          <a:xfrm>
            <a:off x="326880" y="3193920"/>
            <a:ext cx="7747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Introduce the song whilst pointing to the different visu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Encourage the children to repeat each item of vocabulary using a range of silly voi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ing the song again and encourage the children to join in with what they ca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Sing the song again but this time pretend you ar losing your memory and cannot remember some of the words. Can the children hel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Have another go and miss more word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14200" y="233280"/>
            <a:ext cx="1397160" cy="1397160"/>
          </a:xfrm>
          <a:prstGeom prst="rect">
            <a:avLst/>
          </a:prstGeom>
          <a:ln w="0">
            <a:noFill/>
          </a:ln>
        </p:spPr>
      </p:pic>
      <p:pic>
        <p:nvPicPr>
          <p:cNvPr id="61" name="" descr=""/>
          <p:cNvPicPr/>
          <p:nvPr/>
        </p:nvPicPr>
        <p:blipFill>
          <a:blip r:embed="rId2"/>
          <a:stretch/>
        </p:blipFill>
        <p:spPr>
          <a:xfrm>
            <a:off x="2157480" y="366840"/>
            <a:ext cx="1376280" cy="1015920"/>
          </a:xfrm>
          <a:prstGeom prst="rect">
            <a:avLst/>
          </a:prstGeom>
          <a:ln w="0">
            <a:noFill/>
          </a:ln>
        </p:spPr>
      </p:pic>
      <p:pic>
        <p:nvPicPr>
          <p:cNvPr id="62" name="" descr=""/>
          <p:cNvPicPr/>
          <p:nvPr/>
        </p:nvPicPr>
        <p:blipFill>
          <a:blip r:embed="rId3"/>
          <a:stretch/>
        </p:blipFill>
        <p:spPr>
          <a:xfrm>
            <a:off x="4091040" y="343080"/>
            <a:ext cx="1198440" cy="1180800"/>
          </a:xfrm>
          <a:prstGeom prst="rect">
            <a:avLst/>
          </a:prstGeom>
          <a:ln w="0">
            <a:noFill/>
          </a:ln>
        </p:spPr>
      </p:pic>
      <p:pic>
        <p:nvPicPr>
          <p:cNvPr id="63" name="" descr=""/>
          <p:cNvPicPr/>
          <p:nvPr/>
        </p:nvPicPr>
        <p:blipFill>
          <a:blip r:embed="rId4"/>
          <a:stretch/>
        </p:blipFill>
        <p:spPr>
          <a:xfrm>
            <a:off x="6053040" y="271440"/>
            <a:ext cx="1019160" cy="1479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900080" y="1281240"/>
            <a:ext cx="2695680" cy="269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509920" y="1709640"/>
            <a:ext cx="2428920" cy="181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500200" y="1285920"/>
            <a:ext cx="2752920" cy="271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71720" y="1128600"/>
            <a:ext cx="2124000" cy="301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14360" y="519120"/>
            <a:ext cx="2695680" cy="2695680"/>
          </a:xfrm>
          <a:prstGeom prst="rect">
            <a:avLst/>
          </a:prstGeom>
          <a:ln w="0">
            <a:noFill/>
          </a:ln>
        </p:spPr>
      </p:pic>
      <p:pic>
        <p:nvPicPr>
          <p:cNvPr id="50" name="" descr=""/>
          <p:cNvPicPr/>
          <p:nvPr/>
        </p:nvPicPr>
        <p:blipFill>
          <a:blip r:embed="rId2"/>
          <a:stretch/>
        </p:blipFill>
        <p:spPr>
          <a:xfrm>
            <a:off x="3976560" y="728640"/>
            <a:ext cx="2428920" cy="181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00200" y="281160"/>
            <a:ext cx="2160360" cy="2160360"/>
          </a:xfrm>
          <a:prstGeom prst="rect">
            <a:avLst/>
          </a:prstGeom>
          <a:ln w="0">
            <a:noFill/>
          </a:ln>
        </p:spPr>
      </p:pic>
      <p:pic>
        <p:nvPicPr>
          <p:cNvPr id="52" name="" descr=""/>
          <p:cNvPicPr/>
          <p:nvPr/>
        </p:nvPicPr>
        <p:blipFill>
          <a:blip r:embed="rId2"/>
          <a:stretch/>
        </p:blipFill>
        <p:spPr>
          <a:xfrm>
            <a:off x="4309920" y="614520"/>
            <a:ext cx="2090880" cy="1562040"/>
          </a:xfrm>
          <a:prstGeom prst="rect">
            <a:avLst/>
          </a:prstGeom>
          <a:ln w="0">
            <a:noFill/>
          </a:ln>
        </p:spPr>
      </p:pic>
      <p:pic>
        <p:nvPicPr>
          <p:cNvPr id="53" name="" descr=""/>
          <p:cNvPicPr/>
          <p:nvPr/>
        </p:nvPicPr>
        <p:blipFill>
          <a:blip r:embed="rId3"/>
          <a:stretch/>
        </p:blipFill>
        <p:spPr>
          <a:xfrm>
            <a:off x="833400" y="3057480"/>
            <a:ext cx="1914480" cy="1887480"/>
          </a:xfrm>
          <a:prstGeom prst="rect">
            <a:avLst/>
          </a:prstGeom>
          <a:ln w="0">
            <a:noFill/>
          </a:ln>
        </p:spPr>
      </p:pic>
      <p:pic>
        <p:nvPicPr>
          <p:cNvPr id="54" name="" descr=""/>
          <p:cNvPicPr/>
          <p:nvPr/>
        </p:nvPicPr>
        <p:blipFill>
          <a:blip r:embed="rId4"/>
          <a:stretch/>
        </p:blipFill>
        <p:spPr>
          <a:xfrm>
            <a:off x="4043520" y="2981160"/>
            <a:ext cx="1914480" cy="1887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700200" y="281160"/>
            <a:ext cx="2160360" cy="2160360"/>
          </a:xfrm>
          <a:prstGeom prst="rect">
            <a:avLst/>
          </a:prstGeom>
          <a:ln w="0">
            <a:noFill/>
          </a:ln>
        </p:spPr>
      </p:pic>
      <p:pic>
        <p:nvPicPr>
          <p:cNvPr id="56" name="" descr=""/>
          <p:cNvPicPr/>
          <p:nvPr/>
        </p:nvPicPr>
        <p:blipFill>
          <a:blip r:embed="rId2"/>
          <a:stretch/>
        </p:blipFill>
        <p:spPr>
          <a:xfrm>
            <a:off x="4309920" y="614520"/>
            <a:ext cx="2090880" cy="1562040"/>
          </a:xfrm>
          <a:prstGeom prst="rect">
            <a:avLst/>
          </a:prstGeom>
          <a:ln w="0">
            <a:noFill/>
          </a:ln>
        </p:spPr>
      </p:pic>
      <p:pic>
        <p:nvPicPr>
          <p:cNvPr id="57" name="" descr=""/>
          <p:cNvPicPr/>
          <p:nvPr/>
        </p:nvPicPr>
        <p:blipFill>
          <a:blip r:embed="rId3"/>
          <a:stretch/>
        </p:blipFill>
        <p:spPr>
          <a:xfrm>
            <a:off x="833400" y="3057480"/>
            <a:ext cx="1914480" cy="1887480"/>
          </a:xfrm>
          <a:prstGeom prst="rect">
            <a:avLst/>
          </a:prstGeom>
          <a:ln w="0">
            <a:noFill/>
          </a:ln>
        </p:spPr>
      </p:pic>
      <p:pic>
        <p:nvPicPr>
          <p:cNvPr id="58" name="" descr=""/>
          <p:cNvPicPr/>
          <p:nvPr/>
        </p:nvPicPr>
        <p:blipFill>
          <a:blip r:embed="rId4"/>
          <a:stretch/>
        </p:blipFill>
        <p:spPr>
          <a:xfrm>
            <a:off x="4081320" y="2633760"/>
            <a:ext cx="1703520" cy="24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12760" y="79200"/>
            <a:ext cx="69850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is time say that you remember the song thanks to their help and you are going to sing it on your own one more time. Sing the song but change the order of the words e.g. ciseaux, bâteau or Bâteau, bâteau or ciseaux, ciseaux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The children will tell you straight away that you are getting it wrong! Pretend to be very surprised and say that you thought it sounded fine, that you were still in tune. Can they tell why? You might have to prompt the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Point out that ciseaux and bateau have the same number of syllables and that you can swap them in the so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Divide the children into groups and give each group a set of visuals. Sing the song in a different order. Can they put the correct cards in front of them as they hear the song? Have a few go at this. You can use the next slide for this as well, by dragging and dropping the pictures into whatever order you lik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Next, ask each group to create their own song using the visuals cards. They might want to sing their version to the rest of the class. Again, you could use the next slide for this, and the children could even print out their versions for a displ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5:27:41Z</dcterms:created>
  <dc:creator>Leeds User</dc:creator>
  <dc:description/>
  <dc:language>en-US</dc:language>
  <cp:lastModifiedBy>Leeds User</cp:lastModifiedBy>
  <dcterms:modified xsi:type="dcterms:W3CDTF">2008-11-10T15:27:42Z</dcterms:modified>
  <cp:revision>1</cp:revision>
  <dc:subject/>
  <dc:title>Slide 1</dc:title>
</cp:coreProperties>
</file>